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EDE-5C19-4EF2-9E8C-B824165C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C80-AF8A-465D-9F12-CE3536FB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41C-BED9-4CEE-B3A4-2E17BB5F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1D8-7FE4-46E2-AEEA-E8DE9554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D3C6-F458-429D-908A-B3791DFC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4BD-48C5-4DDB-BC1A-5B9130C5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81C-2738-477A-A240-DCFD073C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4AD-8D6E-44E6-9776-B63C479E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C6A-C303-445F-9826-1BF98639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ED9-61BB-4FA4-BBA6-89D4FF05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4E3-6904-4CE2-A914-DA7C11A1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23B-D054-4930-BB95-BA6A3E40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0CE8-C2FC-47A2-BF2D-C1EA1BBAE64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upload.wikimedia.org/wikipedia/commons/c/cc/Pore_schematic.sv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f"/>
                </a:solidFill>
                <a:latin typeface="Calibri"/>
              </a:rPr>
              <a:t>NON-VIRAL GENE THERAPY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Amanda Arye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ene Therap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Gene therapy is the process of introducing foreign DNA into host cell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Gene therapy has the potential to bring about tremendous changes in treatment of various diseases and disord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therapy relies on gene replacement as the solution to treat the disord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Content Placeholder 7" descr=""/>
          <p:cNvPicPr/>
          <p:nvPr/>
        </p:nvPicPr>
        <p:blipFill>
          <a:blip r:embed="rId1"/>
          <a:stretch/>
        </p:blipFill>
        <p:spPr>
          <a:xfrm>
            <a:off x="0" y="0"/>
            <a:ext cx="4863960" cy="631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953 Watson and Crick discovered DNA mode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 concepts of chromosomes, genes, etc. developed thereaft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990’ the first person was treated. White blood cells were extracted from the body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2" descr="http://questgarden.com/82/67/5/100302084057/images/faq_questionmark.jpg"/>
          <p:cNvPicPr/>
          <p:nvPr/>
        </p:nvPicPr>
        <p:blipFill>
          <a:blip r:embed="rId2"/>
          <a:stretch/>
        </p:blipFill>
        <p:spPr>
          <a:xfrm>
            <a:off x="4067280" y="2781360"/>
            <a:ext cx="649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Methods of Gene Therap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VIRAL GENE THERAP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Virus mediated gene delivery utilizes ability of a virus to inject its DNA inside a host cell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A gene that is intended for delivery is packaged into a viral particle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NON-VIRAL GENE THERAP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3280" y="2060640"/>
            <a:ext cx="4104000" cy="1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Micro-injection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Gene gun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Impalefection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Hydrostatic pressure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Electroporation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Continuous infusion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Sonication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Chemical e.g. lipofection.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It can also include the use of polymeric gene carriers (polyplexes)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LECTROPOR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1628640"/>
            <a:ext cx="813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alibri"/>
              </a:rPr>
              <a:t>A significant increase in the electrical conductivity and permeability of the cell plasma membrane caused by an externally applied electrical field (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300-400 mV for &lt; 1 ms membrane span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alibri"/>
              </a:rPr>
              <a:t>It is used primarily to help get genes and drugs into cells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alibri"/>
              </a:rPr>
              <a:t>Acts on the cell membrane, leaving collagen fibres and other vascular tissue structures intact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alibri"/>
              </a:rPr>
              <a:t>Allows healthy cells to re-grow far more quickly.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LECTROPOR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826920" y="4149720"/>
            <a:ext cx="2318040" cy="2003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6" descr="File:Pore schematic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1413000"/>
            <a:ext cx="2505240" cy="233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4643280" y="1773360"/>
            <a:ext cx="406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Schematic showing the theoretical arrangement of lipids in a hydrophobic pore (top) and a hydrophilic pore (bottom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643280" y="4581360"/>
            <a:ext cx="343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An electrode used for irreversible electroporation, which could soon be used to treat tumors in humans. </a:t>
            </a: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(Image courtesy of Oncobionic In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UMMARY AND CONCLU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Advantages of non- viral gene therapy include: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Biocompatibility (Low toxity and non-immunogenicity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fficient nucleic acid delivery and manufacture in commercially acceptable for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There have been significant improvements made over  the past few years that need to be integrated into current systems to exploit their combined attribut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8:05:07Z</dcterms:created>
  <dc:creator>Universities at Medway</dc:creator>
  <dc:description/>
  <dc:language>en-US</dc:language>
  <cp:lastModifiedBy>Universities at Medway</cp:lastModifiedBy>
  <dcterms:modified xsi:type="dcterms:W3CDTF">2010-10-20T07:53:19Z</dcterms:modified>
  <cp:revision>27</cp:revision>
  <dc:subject/>
  <dc:title>NON-VIRAL GENE THERAPY</dc:title>
</cp:coreProperties>
</file>